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064-0FE2-4BF1-94C7-4FF53B86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FEA-0574-4744-ABB6-846E4C15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161B-4F05-4295-AADB-7722246C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FAB-B715-4AA2-B5D8-B91FBC26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E438-CDAD-4E72-B60D-7A57D51B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3BF-CC0D-4C17-874C-246EA609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DDE-272D-4D73-95F2-C6DB48A9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F031-4706-477C-8D6F-20FED822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EC20-7EB1-4CC9-80E1-88BEC52F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61D7-D5E8-4827-AA62-B11FDB11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C1A-A327-4B27-98DF-DFB32C8C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E6E6-E12E-4E13-BABF-8F2A6299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4459-7718-4697-98E0-D292D7A94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51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1332000" y="549360"/>
            <a:ext cx="65516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Oferte primavara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4643280" y="5308560"/>
            <a:ext cx="424836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Vitalshop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poze_flori_lale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adou31751"/>
          <p:cNvPicPr/>
          <p:nvPr/>
        </p:nvPicPr>
        <p:blipFill>
          <a:blip r:embed="rId2"/>
          <a:stretch/>
        </p:blipFill>
        <p:spPr>
          <a:xfrm>
            <a:off x="5148360" y="981000"/>
            <a:ext cx="3600360" cy="3560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2340000" y="1052640"/>
            <a:ext cx="26636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99"/>
                </a:solidFill>
                <a:latin typeface="Monotype Corsiva"/>
              </a:rPr>
              <a:t>Bomboane de ciocolata Milka 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99"/>
                </a:solidFill>
                <a:latin typeface="Monotype Corsiva"/>
              </a:rPr>
              <a:t>Pret:20 l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wallpaper+flori+de+primava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Bomboane%20Milka%20+%20Sampanie"/>
          <p:cNvPicPr/>
          <p:nvPr/>
        </p:nvPicPr>
        <p:blipFill>
          <a:blip r:embed="rId2"/>
          <a:stretch/>
        </p:blipFill>
        <p:spPr>
          <a:xfrm>
            <a:off x="900000" y="907920"/>
            <a:ext cx="3924360" cy="3924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5148360" y="2133720"/>
            <a:ext cx="3527280" cy="2849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Monotype Corsiva"/>
              </a:rPr>
              <a:t>Praline Milka + sampanie Ange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Monotype Corsiva"/>
              </a:rPr>
              <a:t>Pret: 50 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primc483varc483-wallpapers_20245_1920x14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os dulciuri"/>
          <p:cNvPicPr/>
          <p:nvPr/>
        </p:nvPicPr>
        <p:blipFill>
          <a:blip r:embed="rId2"/>
          <a:stretch/>
        </p:blipFill>
        <p:spPr>
          <a:xfrm>
            <a:off x="0" y="1052640"/>
            <a:ext cx="4456080" cy="4600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5003640" y="549360"/>
            <a:ext cx="3311640" cy="705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Cos cu dulci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Conti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Cutie cu bomboane belgiene Fruits de mer haselnusse,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Cutie cu bomboane de ciocolata belgiene Van d'Or,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Fursecuri cu napolitane si ciocolata ,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Cutie cu bomboane de ciocolata Cherry Queen,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Inimioara Milka,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Dupllo,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Raffaello,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Twix.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Pret:90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primavara-lalele-wallpapers_2319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CHRISTINA AGUILERA (PACHET CADOU) "/>
          <p:cNvPicPr/>
          <p:nvPr/>
        </p:nvPicPr>
        <p:blipFill>
          <a:blip r:embed="rId2"/>
          <a:stretch/>
        </p:blipFill>
        <p:spPr>
          <a:xfrm>
            <a:off x="3851280" y="981000"/>
            <a:ext cx="4884840" cy="48848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539640" y="836640"/>
            <a:ext cx="30243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Monotype Corsiva"/>
              </a:rPr>
              <a:t>Cadou Christina Aquil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Monotype Corsiva"/>
              </a:rPr>
              <a:t>Cont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Monotype Corsiva"/>
              </a:rPr>
              <a:t>-parf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Monotype Corsiva"/>
              </a:rPr>
              <a:t>-gel de d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Monotype Corsiva"/>
              </a:rPr>
              <a:t>-crema de ma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Monotype Corsiva"/>
              </a:rPr>
              <a:t>Pret:70 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imagini-de-primava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model"/>
          <p:cNvPicPr/>
          <p:nvPr/>
        </p:nvPicPr>
        <p:blipFill>
          <a:blip r:embed="rId2"/>
          <a:stretch/>
        </p:blipFill>
        <p:spPr>
          <a:xfrm>
            <a:off x="0" y="0"/>
            <a:ext cx="3924360" cy="350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1288-300x249"/>
          <p:cNvPicPr/>
          <p:nvPr/>
        </p:nvPicPr>
        <p:blipFill>
          <a:blip r:embed="rId3"/>
          <a:stretch/>
        </p:blipFill>
        <p:spPr>
          <a:xfrm>
            <a:off x="4932360" y="3624120"/>
            <a:ext cx="4211640" cy="32338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1"/>
          <p:cNvSpPr/>
          <p:nvPr/>
        </p:nvSpPr>
        <p:spPr>
          <a:xfrm>
            <a:off x="5292720" y="549360"/>
            <a:ext cx="356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Monotype Corsiva"/>
              </a:rPr>
              <a:t>Caseta speciala bijuter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Monotype Corsiva"/>
              </a:rPr>
              <a:t>Pret:30 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50920" y="4292640"/>
            <a:ext cx="3564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Monotype Corsiva"/>
              </a:rPr>
              <a:t>Cana 8 mar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Monotype Corsiva"/>
              </a:rPr>
              <a:t>Pret: 15 l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prim%C4%83var%C4%83-wallpapers_18635_160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Esente - Cadouri Magice"/>
          <p:cNvPicPr/>
          <p:nvPr/>
        </p:nvPicPr>
        <p:blipFill>
          <a:blip r:embed="rId2"/>
          <a:stretch/>
        </p:blipFill>
        <p:spPr>
          <a:xfrm>
            <a:off x="0" y="0"/>
            <a:ext cx="4643280" cy="4437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0" y="4292640"/>
            <a:ext cx="46432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Cadou spe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Monotype Corsiva"/>
              </a:rPr>
              <a:t>Mini tablou cu sevalet din lemn (dimensiune tablou 10x13 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Monotype Corsiva"/>
              </a:rPr>
              <a:t>"Vis din Tahiti": aranjament fl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Monotype Corsiva"/>
              </a:rPr>
              <a:t>Cutie pentru cadou decorata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5651640" y="58770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Pret:40 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20090310201005sprin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Rama Foto digitala Breloc foto"/>
          <p:cNvPicPr/>
          <p:nvPr/>
        </p:nvPicPr>
        <p:blipFill>
          <a:blip r:embed="rId2"/>
          <a:stretch/>
        </p:blipFill>
        <p:spPr>
          <a:xfrm>
            <a:off x="0" y="0"/>
            <a:ext cx="3780000" cy="3564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5"/>
          <p:cNvSpPr/>
          <p:nvPr/>
        </p:nvSpPr>
        <p:spPr>
          <a:xfrm>
            <a:off x="3924360" y="549360"/>
            <a:ext cx="3456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ff"/>
                </a:solidFill>
                <a:latin typeface="Monotype Corsiva"/>
              </a:rPr>
              <a:t>Breloc rama foto digit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ff"/>
                </a:solidFill>
                <a:latin typeface="Monotype Corsiva"/>
              </a:rPr>
              <a:t>Pret:45 l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image_125170252698412600_1"/>
          <p:cNvPicPr/>
          <p:nvPr/>
        </p:nvPicPr>
        <p:blipFill>
          <a:blip r:embed="rId3"/>
          <a:stretch/>
        </p:blipFill>
        <p:spPr>
          <a:xfrm>
            <a:off x="5435640" y="3860640"/>
            <a:ext cx="3419280" cy="2997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8"/>
          <p:cNvSpPr/>
          <p:nvPr/>
        </p:nvSpPr>
        <p:spPr>
          <a:xfrm>
            <a:off x="2050920" y="4005360"/>
            <a:ext cx="31687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Monotype Corsiva"/>
              </a:rPr>
              <a:t>Rama foto digitala Sony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c</a:t>
            </a:r>
            <a:r>
              <a:rPr b="1" lang="ro-RO" sz="3200" spc="-1" strike="noStrike">
                <a:solidFill>
                  <a:srgbClr val="0000ff"/>
                </a:solidFill>
                <a:latin typeface="Monotype Corsiva"/>
              </a:rPr>
              <a:t>u cristale swaro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Monotype Corsiva"/>
              </a:rPr>
              <a:t>Pret:150 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8:59:51Z</dcterms:created>
  <dc:creator>PC</dc:creator>
  <dc:description/>
  <dc:language>en-US</dc:language>
  <cp:lastModifiedBy>Elev</cp:lastModifiedBy>
  <dcterms:modified xsi:type="dcterms:W3CDTF">2012-05-14T23:59:34Z</dcterms:modified>
  <cp:revision>3</cp:revision>
  <dc:subject/>
  <dc:title>Slide 1</dc:title>
</cp:coreProperties>
</file>